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FC7-9C24-4DD4-8E32-2A28763AA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350C-3A16-4095-9726-096A86AA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0C66-2D15-4628-99BA-619BF84D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0A0-3773-4C6D-B9C2-D1B018AD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4AD-E090-49BB-9845-99EC4C386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244-0FA9-456C-891A-F5DE1C3D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B0F-F70B-40FD-BA21-C8706D93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D9AE-DEBE-43AB-A534-311AFD64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1352-1000-456A-A700-F19618DD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39A6-DD51-46B4-9F5C-F18D33AD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AA5-A85E-47D4-BE86-1D4776A6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9C2F-D80F-46B8-9865-4C9BF344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B280-E7D2-471F-96F6-C6D10CEC5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225560" y="56008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A2AS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uss EP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w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scuss Enlisted Personnel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di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Given access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 601-210, AR 601-280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DA Pam 600-25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ndard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completion of this lesson you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n overview of the Enli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nel Managemen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5T18:37:24Z</dcterms:created>
  <dc:creator>AG School</dc:creator>
  <dc:description/>
  <dc:language>en-US</dc:language>
  <cp:lastModifiedBy>Administrator</cp:lastModifiedBy>
  <dcterms:modified xsi:type="dcterms:W3CDTF">2005-07-08T12:08:33Z</dcterms:modified>
  <cp:revision>6</cp:revision>
  <dc:subject/>
  <dc:title>Terminal Learning Objec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A\CCA5HS0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